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0D4-A79B-4116-B837-CFAFB9FD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E55-C5DF-4968-B9A5-6F5840BD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626-B978-40BC-8A50-20CDFAF5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4D9-285A-46EE-A711-597506BF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E1D2-3333-473D-A03E-3AFBBF61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A153-D65C-402C-AEB3-C046B769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7A9E-23F1-4DB5-ADCD-E06F60B3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6D58-BA49-41D2-B687-C20FB747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2062-70AC-47C7-860C-E8815994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7998-E236-49A5-869F-D34B5F16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ABE4-41D1-4190-B1FB-DA8A5802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647-1701-468D-B42C-B8FEBBA6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AFF9-5857-42D5-93E2-AFB30803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EF34-03A4-4AEE-AFF4-01C5384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7EC0-5303-4D2C-A412-9ACEF95A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E2A6-1F48-46C3-B854-190ACFFD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EB3D-2571-41C8-A8EC-FA91174B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50C-54F3-4AD5-8152-C60F30DB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584-59EA-45CF-B3FC-161480D1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B07-29B0-4A58-9786-1159078E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129-C994-46D7-8A47-B752090D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D70-A328-4C67-8339-E2625B6E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B1D-B424-4EEE-A236-8390C8B1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4E5-359E-4AE7-A37F-5CEBDF3D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9B4E-0E72-4BAF-BAA7-97EFA48007A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6D46-B38D-451E-AD3E-1476F50ABFC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212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Experimen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14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Cooper Std Black"/>
              </a:rPr>
              <a:t>What is a hypothesis?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5:46:55Z</dcterms:created>
  <dc:creator>PritchaJ</dc:creator>
  <dc:description/>
  <dc:language>en-US</dc:language>
  <cp:lastModifiedBy>PritchaJ</cp:lastModifiedBy>
  <dcterms:modified xsi:type="dcterms:W3CDTF">2011-05-24T15:50:31Z</dcterms:modified>
  <cp:revision>1</cp:revision>
  <dc:subject/>
  <dc:title>Slide 1</dc:title>
</cp:coreProperties>
</file>